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E8FF-3BE7-4715-B36B-F8CFDF4D0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F679-4B8C-4720-8176-1024D7A1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43C6B4-A0DD-4D2D-BB44-C1BA7B77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8AEF12-2C74-4F2B-A7CE-87542107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4DC80C-3F23-43BA-A446-F073644F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ECEA9D-A83D-400B-AD48-F6755C82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C7CA72-2A80-40A0-8A21-F1229188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245AF8-6508-4F03-BAFD-1EFD5B75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C0EC3A-DAAC-492B-8772-1F7E813D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6235EF-F9C8-47F9-98C2-173E6F3C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E7B5F0-ABE8-4CAF-87B2-0FAE0C9426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D9845-1115-4CDE-97F0-66259B53B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0E80-0BF6-43D7-9003-83A7E04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3CFA1-F410-40F5-A342-9265BF93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1341-EFF3-4EBA-AFC1-3B28BB87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FC21-DE4E-4E0B-8C2C-8ACBA809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CE33B-24DD-4118-BB97-D92D8819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A0331-7F05-4008-B70B-5AECB382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51A0C-7EFB-42DD-9CEA-425F8349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DCF60-8CD3-4CDC-AFD6-8732F79C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A8200-E805-4140-8567-690F380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F7C98-2D49-4221-A019-E06DB8FF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63F1-2555-4664-BC9C-EB6EF7AD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6DD6-D16C-4154-9F39-0AD132228E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D2174-4D0B-4CE2-8FDE-0633BAD69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A40C58-29F0-4E6E-A53C-3D433BE02D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A8C8F1-5D3E-4413-998B-3793A02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F2BF5-8833-4CF5-A65F-627C7CE3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A6E82-AAE7-4D13-AA16-2963A29D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BF0B57-2910-4558-8B9D-DA8278BF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0D07B6-34FD-4A45-B80F-12AD993D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64F6DA-F8F4-4B89-A3E5-2CFC5CA4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4685E5-1EBA-4ABD-A150-E5CF0504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8079BC-CACD-4692-B709-16C319B4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99D4B-C9CF-4066-AB49-EF9AA4D8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1E7BEA-B372-4F43-BB14-18CED4FE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3F1163-7442-4590-9607-ECFF34C9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F2A732-C3DC-4E06-899E-8382F8EF7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A14A6-F9AC-4B90-84D3-F7E0F7200A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1F311-9377-4F87-A0A5-92618E6C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A6117-EE2D-4002-B61F-0282FAFE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68F25-5551-4D2F-82A2-45A2FBD8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9CD75-34B1-445A-B2AB-EA13DAE1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11A49-95AE-4583-8709-B06C2AF5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011BC-C357-4BD9-9E14-9606061A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1DC87-3133-4D3D-B9D4-27DC3204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CB6CD-8554-4BF2-9083-2F332ED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3B795-2874-4B95-93B6-F312A18E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62069-E06F-40D1-AF7F-43D4AE3A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728A8-03B3-4810-8516-7AF845C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82358-343D-4FBE-919C-95D3C343C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158BF-BE55-4FCC-9E81-E7AC18988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7CDB1-14D8-44A0-B4CC-AE3091CB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9D562-61CA-4C8A-99A9-523CA65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78597-2B8F-4CE6-BE2F-11A2AE07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D7D9A-6933-48BD-B4F4-C4871573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39631-7480-4B88-9608-2C1F4C32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17713-83AC-4DCB-B8D6-9BFF54BA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A4BEB-84C2-457D-A351-066E4583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485F9-1A52-4430-94D0-3FE904C1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EE274-1C84-45AC-9D8C-7F53D6CA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44A65-9CE0-4949-AB4D-BC15FFE9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AD2B1-E666-44A4-B55C-6C5CB0ED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5FA16-7AC5-4D74-B7A1-A6FCCFAA49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F3955-C920-4711-9656-00BFC9EA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07447-B81E-469A-A1C5-F349AF96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85EAD-5AAD-4B92-A3DF-49324F44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338BB-0E41-4CDB-86A8-53850DDC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0B711-C312-44F3-8FD5-E571D473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1363E-8B7C-4B18-867E-B24AD6D4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5C677-4545-410D-AB22-71AB87DF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599E9-FF87-45DA-A864-CFC2728E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B3416-9AAD-40E2-BF17-5F53E5ED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03403-D761-4134-9E55-AB3F7F1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112F7-172E-4891-8FE7-081F7320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21D79-9D46-4797-9043-222D444F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171CA-9E53-42F8-A111-E6994EC9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CDB16-F99C-4481-BA88-1F15D863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B8EAA-8113-4DC3-A044-1911D705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FC75C-FC17-49D7-A0E3-9C9F4FC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27686-450E-4925-9460-4271F297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44042-4FCD-4999-BDA0-8FD87D7A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1EFEC-0723-405C-9F4A-76FC54E2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F5CC9-8C2C-40B4-B743-7E64D1C2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A1DCF-52CC-41A1-B7C6-F1C005A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D7A40-4F51-443B-8327-A7C191C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2B091-8E85-4F75-BADF-C22C357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8D329-9960-4B73-929E-5CC4F211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4AE27-F2AB-418D-A580-A28976E2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685D7-3C20-4C06-AD86-4459EA4C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5166E-E78E-4E75-A206-BD36E06C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94B0C-EDA6-42CB-B080-A5FA53D7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3525C-C6BA-4A93-9C44-CF83265B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85A8A-8C43-4484-9075-1949C69F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023A9-2567-4E8D-A5EF-EC08D70A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D4EDD-8D3D-4B27-829B-B59F8941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1F03F-6890-4511-B9FC-C9B2ED68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AEDA8-4448-4B6D-92D8-66F82313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C0B58-A7AC-47C4-84CD-E6588B7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11A41-13B7-4C93-BF86-7B81CF9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B3D48-619E-4F85-A738-EFAEBA4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82AA8-3DFA-450F-AC01-D0A5142C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09351-E893-4048-8DFE-6FAEE0C7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88FFF-2972-4A9E-93FA-F070FC71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F78B8-E41F-42E0-AD0C-8A1E2B78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CD7CC-DBA6-461C-BFD4-D4E79F3C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419DB-1723-4EDE-864D-9048CD0C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9422A-F327-4326-82C7-637675A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FC6A6-7AA9-45E2-98F5-E44F2FB1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9BCFA-C0F4-488E-97BD-3B9CD06D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564B7-BE49-4E7F-9A67-E388C40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9F44-E3C2-43F5-B59C-1F3006BD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BD4F8-C7EC-4BAB-9F43-6CC8305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6807F-C93A-416A-8EF0-C85304B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6FBEF-CDB2-401E-8F50-3EB26EC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6F417-E56A-4BE1-8DEB-EAE2B2DC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F3F3E-D3DF-4635-80AF-E8A731EC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63B07-9DD5-4A44-BA7A-DB108471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AFCAB-464A-4B47-8911-D63216DA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F8855-5086-4ACE-8EC7-A11CDC7E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2E72D-1699-4371-A97B-2EBD00F5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DF4FB-289B-4735-A987-CB29B4B7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5DF7D-1195-4854-AD3A-9735831B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5276B-1253-4EA9-9F50-36A7253A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2B5FC-0688-487E-B531-236743C0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60DFA-2A1F-4A0F-B5F9-06ADFF6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1CF62-603A-48E4-AB25-986B4AC7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1C8D0-CB4B-459C-95BB-33BE8150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3D256-885E-41EC-BF9D-9356352D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42A14-BAF3-4D68-AEBB-232311EA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0F34B-DAB6-45DF-B0BE-99FB2FF6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7C7A0-576B-4B83-A6B4-8FD80C70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E6BEF-CACF-4EBD-BE09-15C2AF3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66869-3106-43A7-9BA2-E6195ED8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42FA5-396F-4F9F-952F-C76CE39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6693B-6FF0-408B-8AA2-A5A5AC93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02382-7049-4507-AE70-1A1E8E93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937CE-4373-4911-BA23-3F647A6B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0C115-457E-4CC4-B79A-BD633567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C91E1-0E6C-4CD8-AEC6-46B481F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87E40-A403-488E-9A71-F44A71A2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9482D-BC6D-457E-9788-7828AE9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60A69-F673-48A6-9A0E-CA2B9F6B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34980-FF9E-45DE-A55B-C608E6FA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1280B-85B4-4889-9422-092DD9D7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4E4C2-25F7-41F6-A12E-BCFE1379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E62E9-6B0A-46A5-910A-CA3ADC1B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5197B-2617-4BF2-AE19-970757F8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7ECC8-49FA-4CD4-908A-348B09B7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4D5A3-A15F-4F2C-992F-BCD85913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4F83F-BA0D-4C7B-86E6-9FA9B607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B7C63-C034-46CB-8666-AF32DE9F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BCDB0-59CF-4E63-B2B4-1BCBD93F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1CA8D-0DC2-4B78-BD96-A79D502D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C7F16-C514-4693-B0B8-A044A49D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6BE34-E490-42E8-B463-377D9294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C88FA-0B90-4764-8F2F-1FC7C77B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E6670-5CB8-4191-A84C-BA8EA412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0F357-4893-40F7-895A-7FAEEEF8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E323E-638F-49C3-8456-F82EB137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7A3B0-D33F-4B2E-BF78-240DD810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09379-E0F7-4095-B20D-DF41922C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5D98A-2E64-47D5-AAF4-4CDA958D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54B0B-6BAA-4BDD-BB19-91A27BC9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411FA-7971-4BCD-B839-B819D062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4AAF2-8553-4406-9643-4AA3D09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5A513-449E-44D3-993D-AA2B101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F9D9B-2C18-4F65-B254-F65E9B7E4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B6AAC-361F-4130-AB75-01411303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6981C-1290-436E-802E-66F16FF3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BCC95-710F-44E5-ABEF-79F95B17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855D7-EFD7-4174-9EBB-D4BA0DBA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152A5-D44F-4A3D-8622-FEC55F11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B5F07-6C2E-42C3-8919-5A387C91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76426-45D5-48AD-98F4-3969E548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06B63-0B3E-4A70-AC25-416B5EAD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205A9-FC00-463D-972C-F11FA059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85CD4-CBF8-49A6-B284-CD6E0558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D2252-4C64-4263-B383-A53A7179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49DFB-7520-436C-AAE6-CC62AF2C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FFB8C-8C13-4082-81A4-0E7902E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F7CA6-1E7E-4BA8-8F41-FC953ED9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852D5C-9522-4AF2-937F-F5409C0C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61BE5-9C8B-4DE7-97D9-7D5A2C71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BF789B-B419-4AA8-8C77-1A2807B3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8D1C8B-36B3-4A4C-ADC8-EDD087F3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7FE4EC-4E09-4065-9493-60015DB7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264A3-1862-480F-ABAA-F67CA8EC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A4B12-F001-43D5-BAB0-3709B7A7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D66740-A7CB-474F-AB51-7D79E3FA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3D0E4-2022-40FA-B736-4B5E379D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05F639-E2A5-47BF-BED4-AEAC1558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8B1F9-AB9F-4A5C-8274-8607354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DFD20-9D2F-4B36-9B6C-E48D06C5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5D9E23-B98A-41BF-B27F-CDABA271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0BBC7-E5CE-401F-8820-106F797B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E72F0-9259-482F-A7CC-10270563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716FF-4629-4A2B-BCED-C73A7D79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7FEF7-A9DE-4ABD-9162-71B4A6BC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F10BE-FB36-4BFE-96DC-6FBB5798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AD505-C7B6-4ED1-B41A-8799E461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CEC2FF-469B-43E2-B3F6-6FC2099D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C0190F-A09B-4045-8D47-E7CF6A41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38304-6383-4812-9FA8-816AEA78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911D9-433E-479B-B24D-02D0AAE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6AA3B-39A5-4B18-B270-FF85A858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33CB27-F899-4AF3-BEE2-0C7B3DC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67AF86-4505-47AC-903E-5EF75E4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2823C4-480A-47C1-9C4A-6FB6EE24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F9333-AC16-4C9F-94C6-78859105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7262D-CFAB-4E5A-9FBE-A604DBB4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BFAC-60B8-4EA4-A3C6-FF683698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8A254-B9AA-4646-BAF6-91DA4FFA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ACADC-8606-429B-B68D-88BDA403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0F8B9-5BD4-4041-8CEB-1D0D72A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6879E-02C9-46BB-868E-474A1EDD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4209DF-8322-4523-B0D8-4AE07792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F26B3-154E-48D1-8EEB-3AF548E1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42E53E-130D-4AB0-8353-ECF50FE5C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6813C-90A0-4356-AA0D-65299BD19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04600-28E1-49AA-ADF1-8B199286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04B5-463B-4313-8595-800A1A02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836C-8711-4797-83BD-02BA43C4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01A2-6997-44C8-98E4-33EB62E8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4D7AF-54E6-4AD9-B1E2-5BA13753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0DE7-529D-4789-A072-0ADAB49A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DB01-3582-470C-909F-52E3E6F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74EF-5F92-4537-A4E5-5ED6A9F1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2FD4-88A5-4E25-A677-B69B2DC0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2EC5-6C7B-4C55-A89A-6251BF5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3A4B-F6E9-4A40-9D60-CF6EDE9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0FE5-EB93-4D7F-A733-0EFC57E31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BF6ED-5A59-411B-953E-DFFEF3C1FC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AA30-4C79-40BD-8953-9F429E6A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CF5E8-F6CB-40C1-B2A0-0E5540D9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41BB1-E792-4C40-9E59-20ED13DE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DD122-E51B-4879-9500-39F56C2B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841B4-1D2C-4E27-A141-72DA3789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8C268-5407-4CDD-9298-7711E206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2B456-0950-4473-844B-F1D21AE0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E75C0-09A9-4834-89D0-B9181480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1FFAE-D661-4508-9278-62A14313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01C2A-5088-471C-8B84-6ADCE886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C8EC6-A4CE-44E9-B251-1F0121C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CA71-E748-4B62-BB76-44ADD6C9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67FAD-8ACB-4E13-AEE8-7135D26FD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B802E-B21C-4D56-8ED0-0D85B0116A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5791BA-3170-47D2-817D-FEE312F2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871DF3-4B03-4594-AB93-57B5948C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89BF7F-B10F-42F4-91B9-4B7BCDF4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D76F4-3E2C-47A7-AC64-EDD99123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85F6B7-8305-4046-97FE-2074BBD8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FFCAA-6C07-4F89-8C7F-596CBD91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E79881-AFA7-4048-B5A6-2A99A1B6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3B355B-AA44-4523-B1C3-6525DA45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133B-8504-43E3-A06E-B03953DA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A8B756-870C-4C2E-ABBC-0CD6467F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AE2A28-37AD-44D9-9AC6-B4F5AC4E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A3B139-33A9-4B25-9616-9C88079239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AFCC-D3D4-4451-9051-EAA2A7069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B9A23-DCA9-43D5-8BA4-9F4EA6F0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03BBB-7CCD-462B-A20C-0B398A45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E59B1-C4FF-4CD8-928F-DE0090F4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10194-53D8-4305-875B-7F1BA605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F689A-0DD7-43F4-AA53-1FA664EC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4CD0C-FC09-499B-9C60-2D355E8A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DDD2-CB44-444D-9A94-2A81C82C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B8C8-E737-4A9C-97E4-E9D2EFD5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D3A8-B378-4A4F-9820-6739C335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B788-93E0-4205-B29D-0EE3142E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BF1B5-566D-40E1-86D9-454AB36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7424-F655-4604-8765-229F6795B4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B16DF-BAC0-4729-B28E-4C6781F95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468C6-BD1D-47FA-9F8A-FC7E97C7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8FF39-43CF-40AF-AC7A-91711ECE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1E00D-DF35-4884-B406-7A19DB37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D329A-E76C-4515-A3BF-4D33692F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D2CF-6B53-494D-851E-15E3A767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B3BF3-22D2-421B-B9C4-E7A0ABD2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6C2E6-16FB-4F1D-B048-78BA9840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A4CCB-2DF3-4067-9E83-0B30A55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18449-A972-4058-ABD6-6DF34605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E319D-9E59-4791-82B6-7C81626C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7858B-0BD4-4FAB-92EC-3205C9E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A0BC7-C80C-44F6-BEEF-554C5A9390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A605DC-60FA-4840-9145-0BCE2C7E27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469130-B85D-4A09-9EBF-D4A6348D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8C61B8-A8BD-4F5D-AB26-886D3079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70CC-A9B7-4C68-B725-80C98AE9B1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09F7-2FC9-47AA-A147-15763E13CC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FF44-A824-4822-883B-7E6181880F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0290-9B33-491C-8C61-437B6FFB9BE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EBFA-B20E-49E9-AE04-BE526F8B9B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49C-BB3A-4865-BBB6-204DD598B5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5CBF-741A-42FB-A6B3-D6E26A14EC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8AC3-D6C0-4851-B0E0-699AEA2A9B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BC6A-AA73-48FD-A22E-559D5518D60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589-677D-4A4B-8DD0-E75F61B8C3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86E8-9DA5-4E7F-B042-236804BBEC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8FEC-023D-4230-A647-BDD06C9966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FB56-7D40-46AD-9C6F-C8C147FD45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7C80-BD04-4275-9498-F51ACF81FF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7FC-D3AB-457F-B09A-42FD42402C1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1BE2-AE6D-4B11-82E4-9E8DAAB1E2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BF81-6D70-48B2-B1B3-44D169C3C0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338C-10E8-4296-91E9-BDC6FAA8FEA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0379-EB60-4DE4-855B-DA6A5C7804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9D5C-53BB-47FC-940D-D8D1D4E494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18AB-949D-4882-92FC-6DFCA555EF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8219-2744-42F1-A00C-8D539EA2C8B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4B4E-7492-4538-849A-70DF86105C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A6E3-CE91-4BDF-BBB6-7697A31252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241720" y="2841480"/>
            <a:ext cx="5569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9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3240" y="87480"/>
            <a:ext cx="3128760" cy="527040"/>
            <a:chOff x="3240" y="87480"/>
            <a:chExt cx="312876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47240" y="87480"/>
              <a:ext cx="2984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3240" y="182520"/>
              <a:ext cx="414360" cy="274680"/>
              <a:chOff x="3240" y="182520"/>
              <a:chExt cx="414360" cy="27468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243360" y="34848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8080" y="31428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243360" y="22212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080" y="19764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40" y="331200"/>
                <a:ext cx="34164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302040"/>
                <a:ext cx="34164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0" y="211680"/>
                <a:ext cx="34164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" y="182520"/>
                <a:ext cx="341640" cy="10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cxnSp>
        <p:nvCxnSpPr>
          <p:cNvPr id="1009" name="直接箭头连接符 93"/>
          <p:cNvCxnSpPr/>
          <p:nvPr/>
        </p:nvCxnSpPr>
        <p:spPr>
          <a:xfrm>
            <a:off x="71280" y="4993920"/>
            <a:ext cx="896544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10" name="组合 102"/>
          <p:cNvGrpSpPr/>
          <p:nvPr/>
        </p:nvGrpSpPr>
        <p:grpSpPr>
          <a:xfrm>
            <a:off x="47160" y="4496760"/>
            <a:ext cx="3874320" cy="1429560"/>
            <a:chOff x="47160" y="4496760"/>
            <a:chExt cx="3874320" cy="1429560"/>
          </a:xfrm>
        </p:grpSpPr>
        <p:sp>
          <p:nvSpPr>
            <p:cNvPr id="1011" name="弧形 96"/>
            <p:cNvSpPr/>
            <p:nvPr/>
          </p:nvSpPr>
          <p:spPr>
            <a:xfrm rot="17807400">
              <a:off x="145440" y="4751280"/>
              <a:ext cx="113688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弧形 97"/>
            <p:cNvSpPr/>
            <p:nvPr/>
          </p:nvSpPr>
          <p:spPr>
            <a:xfrm rot="17807400">
              <a:off x="1018440" y="4751280"/>
              <a:ext cx="113688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弧形 98"/>
            <p:cNvSpPr/>
            <p:nvPr/>
          </p:nvSpPr>
          <p:spPr>
            <a:xfrm rot="17807400">
              <a:off x="1851840" y="4751280"/>
              <a:ext cx="113688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弧形 99"/>
            <p:cNvSpPr/>
            <p:nvPr/>
          </p:nvSpPr>
          <p:spPr>
            <a:xfrm rot="17807400">
              <a:off x="2685600" y="4751280"/>
              <a:ext cx="113688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弧形 104"/>
          <p:cNvSpPr/>
          <p:nvPr/>
        </p:nvSpPr>
        <p:spPr>
          <a:xfrm rot="17807400">
            <a:off x="3535200" y="4750920"/>
            <a:ext cx="1136880" cy="920880"/>
          </a:xfrm>
          <a:custGeom>
            <a:avLst/>
            <a:gdLst/>
            <a:ahLst/>
            <a:rect l="l" t="t" r="r" b="b"/>
            <a:pathLst>
              <a:path stroke="0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  <a:lnTo>
                  <a:pt x="568325" y="460375"/>
                </a:lnTo>
                <a:close/>
              </a:path>
              <a:path fill="none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弧形 105"/>
          <p:cNvSpPr/>
          <p:nvPr/>
        </p:nvSpPr>
        <p:spPr>
          <a:xfrm rot="17807400">
            <a:off x="4407840" y="4751280"/>
            <a:ext cx="1136880" cy="920520"/>
          </a:xfrm>
          <a:custGeom>
            <a:avLst/>
            <a:gdLst/>
            <a:ahLst/>
            <a:rect l="l" t="t" r="r" b="b"/>
            <a:pathLst>
              <a:path stroke="0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  <a:lnTo>
                  <a:pt x="568325" y="460375"/>
                </a:lnTo>
                <a:close/>
              </a:path>
              <a:path fill="none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弧形 106"/>
          <p:cNvSpPr/>
          <p:nvPr/>
        </p:nvSpPr>
        <p:spPr>
          <a:xfrm rot="17807400">
            <a:off x="5241240" y="4751280"/>
            <a:ext cx="1136880" cy="920520"/>
          </a:xfrm>
          <a:custGeom>
            <a:avLst/>
            <a:gdLst/>
            <a:ahLst/>
            <a:rect l="l" t="t" r="r" b="b"/>
            <a:pathLst>
              <a:path stroke="0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  <a:lnTo>
                  <a:pt x="568325" y="460375"/>
                </a:lnTo>
                <a:close/>
              </a:path>
              <a:path fill="none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弧形 107"/>
          <p:cNvSpPr/>
          <p:nvPr/>
        </p:nvSpPr>
        <p:spPr>
          <a:xfrm rot="17807400">
            <a:off x="6075720" y="4752000"/>
            <a:ext cx="1136880" cy="919440"/>
          </a:xfrm>
          <a:custGeom>
            <a:avLst/>
            <a:gdLst/>
            <a:ahLst/>
            <a:rect l="l" t="t" r="r" b="b"/>
            <a:pathLst>
              <a:path stroke="0" w="1136650" h="919162">
                <a:moveTo>
                  <a:pt x="568324" y="0"/>
                </a:moveTo>
                <a:cubicBezTo>
                  <a:pt x="882201" y="0"/>
                  <a:pt x="1136649" y="205761"/>
                  <a:pt x="1136649" y="459581"/>
                </a:cubicBezTo>
                <a:cubicBezTo>
                  <a:pt x="1136649" y="584105"/>
                  <a:pt x="1075406" y="697062"/>
                  <a:pt x="975949" y="779830"/>
                </a:cubicBezTo>
                <a:lnTo>
                  <a:pt x="568325" y="459581"/>
                </a:lnTo>
                <a:close/>
              </a:path>
              <a:path fill="none" w="1136650" h="919162">
                <a:moveTo>
                  <a:pt x="568324" y="0"/>
                </a:moveTo>
                <a:cubicBezTo>
                  <a:pt x="882201" y="0"/>
                  <a:pt x="1136649" y="205761"/>
                  <a:pt x="1136649" y="459581"/>
                </a:cubicBezTo>
                <a:cubicBezTo>
                  <a:pt x="1136649" y="584105"/>
                  <a:pt x="1075406" y="697062"/>
                  <a:pt x="975949" y="77983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11"/>
          <p:cNvSpPr/>
          <p:nvPr/>
        </p:nvSpPr>
        <p:spPr>
          <a:xfrm>
            <a:off x="214200" y="5072040"/>
            <a:ext cx="308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0     9   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"/>
          <p:cNvSpPr/>
          <p:nvPr/>
        </p:nvSpPr>
        <p:spPr>
          <a:xfrm>
            <a:off x="981720" y="71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一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1"/>
          <p:cNvSpPr/>
          <p:nvPr/>
        </p:nvSpPr>
        <p:spPr>
          <a:xfrm>
            <a:off x="2571840" y="5089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1"/>
          <p:cNvSpPr/>
          <p:nvPr/>
        </p:nvSpPr>
        <p:spPr>
          <a:xfrm>
            <a:off x="3429000" y="5089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1"/>
          <p:cNvSpPr/>
          <p:nvPr/>
        </p:nvSpPr>
        <p:spPr>
          <a:xfrm>
            <a:off x="4286160" y="5089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5143680" y="5089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1"/>
          <p:cNvSpPr/>
          <p:nvPr/>
        </p:nvSpPr>
        <p:spPr>
          <a:xfrm>
            <a:off x="6000840" y="5089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51"/>
          <p:cNvSpPr/>
          <p:nvPr/>
        </p:nvSpPr>
        <p:spPr>
          <a:xfrm>
            <a:off x="6858000" y="5089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2" descr="D:\我的文档-桌面-收藏夹\桌面\2010002副本.png"/>
          <p:cNvPicPr/>
          <p:nvPr/>
        </p:nvPicPr>
        <p:blipFill>
          <a:blip r:embed="rId8"/>
          <a:stretch/>
        </p:blipFill>
        <p:spPr>
          <a:xfrm>
            <a:off x="2624040" y="1071720"/>
            <a:ext cx="1947960" cy="1482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D:\我的文档-桌面-收藏夹\桌面\2010002副本.png"/>
          <p:cNvPicPr/>
          <p:nvPr/>
        </p:nvPicPr>
        <p:blipFill>
          <a:blip r:embed="rId9"/>
          <a:stretch/>
        </p:blipFill>
        <p:spPr>
          <a:xfrm>
            <a:off x="750960" y="1131840"/>
            <a:ext cx="1947960" cy="1482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D:\我的文档-桌面-收藏夹\桌面\2010002副本.png"/>
          <p:cNvPicPr/>
          <p:nvPr/>
        </p:nvPicPr>
        <p:blipFill>
          <a:blip r:embed="rId10"/>
          <a:stretch/>
        </p:blipFill>
        <p:spPr>
          <a:xfrm>
            <a:off x="1500120" y="2004840"/>
            <a:ext cx="1949400" cy="1482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D:\我的文档-桌面-收藏夹\桌面\2010002副本.png"/>
          <p:cNvPicPr/>
          <p:nvPr/>
        </p:nvPicPr>
        <p:blipFill>
          <a:blip r:embed="rId11"/>
          <a:stretch/>
        </p:blipFill>
        <p:spPr>
          <a:xfrm>
            <a:off x="1195560" y="2874960"/>
            <a:ext cx="1947600" cy="1482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D:\我的文档-桌面-收藏夹\桌面\2010002副本.png"/>
          <p:cNvPicPr/>
          <p:nvPr/>
        </p:nvPicPr>
        <p:blipFill>
          <a:blip r:embed="rId12"/>
          <a:stretch/>
        </p:blipFill>
        <p:spPr>
          <a:xfrm>
            <a:off x="4481640" y="1017720"/>
            <a:ext cx="1947600" cy="1482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D:\我的文档-桌面-收藏夹\桌面\2010002副本.png"/>
          <p:cNvPicPr/>
          <p:nvPr/>
        </p:nvPicPr>
        <p:blipFill>
          <a:blip r:embed="rId13"/>
          <a:stretch/>
        </p:blipFill>
        <p:spPr>
          <a:xfrm>
            <a:off x="4481640" y="1819440"/>
            <a:ext cx="1947600" cy="1484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D:\我的文档-桌面-收藏夹\桌面\2010002副本.png"/>
          <p:cNvPicPr/>
          <p:nvPr/>
        </p:nvPicPr>
        <p:blipFill>
          <a:blip r:embed="rId14"/>
          <a:stretch/>
        </p:blipFill>
        <p:spPr>
          <a:xfrm>
            <a:off x="3584520" y="2543040"/>
            <a:ext cx="1947960" cy="1482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2" descr="D:\我的文档-桌面-收藏夹\桌面\2010002副本.png"/>
          <p:cNvPicPr/>
          <p:nvPr/>
        </p:nvPicPr>
        <p:blipFill>
          <a:blip r:embed="rId15"/>
          <a:stretch/>
        </p:blipFill>
        <p:spPr>
          <a:xfrm>
            <a:off x="6215040" y="2660760"/>
            <a:ext cx="1947960" cy="1482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2" descr="D:\我的文档-桌面-收藏夹\桌面\2010002副本.png"/>
          <p:cNvPicPr/>
          <p:nvPr/>
        </p:nvPicPr>
        <p:blipFill>
          <a:blip r:embed="rId16"/>
          <a:stretch/>
        </p:blipFill>
        <p:spPr>
          <a:xfrm>
            <a:off x="6357960" y="1374840"/>
            <a:ext cx="1947960" cy="1482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D:\我的文档-桌面-收藏夹\桌面\20090113112823516.jpg"/>
          <p:cNvPicPr/>
          <p:nvPr/>
        </p:nvPicPr>
        <p:blipFill>
          <a:blip r:embed="rId17"/>
          <a:stretch/>
        </p:blipFill>
        <p:spPr>
          <a:xfrm>
            <a:off x="7929720" y="4214880"/>
            <a:ext cx="911160" cy="785880"/>
          </a:xfrm>
          <a:prstGeom prst="rect">
            <a:avLst/>
          </a:prstGeom>
          <a:ln w="0">
            <a:noFill/>
          </a:ln>
        </p:spPr>
      </p:pic>
      <p:sp>
        <p:nvSpPr>
          <p:cNvPr id="1037" name="弧形 135"/>
          <p:cNvSpPr/>
          <p:nvPr/>
        </p:nvSpPr>
        <p:spPr>
          <a:xfrm rot="17807400">
            <a:off x="6956280" y="4750920"/>
            <a:ext cx="1136880" cy="920880"/>
          </a:xfrm>
          <a:custGeom>
            <a:avLst/>
            <a:gdLst/>
            <a:ahLst/>
            <a:rect l="l" t="t" r="r" b="b"/>
            <a:pathLst>
              <a:path stroke="0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  <a:lnTo>
                  <a:pt x="568325" y="460375"/>
                </a:lnTo>
                <a:close/>
              </a:path>
              <a:path fill="none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1"/>
          <p:cNvSpPr/>
          <p:nvPr/>
        </p:nvSpPr>
        <p:spPr>
          <a:xfrm>
            <a:off x="7715160" y="5089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八边形 7"/>
          <p:cNvSpPr/>
          <p:nvPr/>
        </p:nvSpPr>
        <p:spPr>
          <a:xfrm>
            <a:off x="457200" y="85896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圆角矩形 1"/>
          <p:cNvSpPr/>
          <p:nvPr/>
        </p:nvSpPr>
        <p:spPr>
          <a:xfrm>
            <a:off x="3429000" y="571680"/>
            <a:ext cx="2000160" cy="564336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5643360"/>
              <a:gd name="textAreaBottom" fmla="*/ 5545800 h 5643360"/>
            </a:gdLst>
            <a:ahLst/>
            <a:rect l="textAreaLeft" t="textAreaTop" r="textAreaRight" b="textAreaBottom"/>
            <a:pathLst>
              <a:path w="21600" h="60936">
                <a:moveTo>
                  <a:pt x="3600" y="0"/>
                </a:moveTo>
                <a:arcTo wR="3600" hR="3600" stAng="16200000" swAng="-5400000"/>
                <a:lnTo>
                  <a:pt x="0" y="57336"/>
                </a:lnTo>
                <a:arcTo wR="3600" hR="3600" stAng="10800000" swAng="-5400000"/>
                <a:lnTo>
                  <a:pt x="18000" y="60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99"/>
          </a:solidFill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2714760" y="2500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2714760" y="19573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1"/>
          <p:cNvSpPr/>
          <p:nvPr/>
        </p:nvSpPr>
        <p:spPr>
          <a:xfrm>
            <a:off x="2714760" y="13143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1"/>
          <p:cNvSpPr/>
          <p:nvPr/>
        </p:nvSpPr>
        <p:spPr>
          <a:xfrm>
            <a:off x="4429080" y="131436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十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1"/>
          <p:cNvSpPr/>
          <p:nvPr/>
        </p:nvSpPr>
        <p:spPr>
          <a:xfrm>
            <a:off x="4286160" y="195732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十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4286160" y="2457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51"/>
          <p:cNvSpPr/>
          <p:nvPr/>
        </p:nvSpPr>
        <p:spPr>
          <a:xfrm>
            <a:off x="2786040" y="7142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组合 78"/>
          <p:cNvGrpSpPr/>
          <p:nvPr/>
        </p:nvGrpSpPr>
        <p:grpSpPr>
          <a:xfrm>
            <a:off x="1800360" y="1246320"/>
            <a:ext cx="5557680" cy="539640"/>
            <a:chOff x="1800360" y="1246320"/>
            <a:chExt cx="5557680" cy="539640"/>
          </a:xfrm>
        </p:grpSpPr>
        <p:sp>
          <p:nvSpPr>
            <p:cNvPr id="1049" name="TextBox 46"/>
            <p:cNvSpPr/>
            <p:nvPr/>
          </p:nvSpPr>
          <p:spPr>
            <a:xfrm>
              <a:off x="3500280" y="128556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二九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Box 44"/>
            <p:cNvSpPr/>
            <p:nvPr/>
          </p:nvSpPr>
          <p:spPr>
            <a:xfrm>
              <a:off x="1800360" y="1246320"/>
              <a:ext cx="10566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2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Box 48"/>
            <p:cNvSpPr/>
            <p:nvPr/>
          </p:nvSpPr>
          <p:spPr>
            <a:xfrm>
              <a:off x="5786640" y="1285560"/>
              <a:ext cx="1571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2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矩形 13"/>
            <p:cNvSpPr/>
            <p:nvPr/>
          </p:nvSpPr>
          <p:spPr>
            <a:xfrm>
              <a:off x="2643120" y="128556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矩形 14"/>
            <p:cNvSpPr/>
            <p:nvPr/>
          </p:nvSpPr>
          <p:spPr>
            <a:xfrm>
              <a:off x="6572520" y="128556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Rectangle 51"/>
          <p:cNvSpPr/>
          <p:nvPr/>
        </p:nvSpPr>
        <p:spPr>
          <a:xfrm>
            <a:off x="6572160" y="2500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51"/>
          <p:cNvSpPr/>
          <p:nvPr/>
        </p:nvSpPr>
        <p:spPr>
          <a:xfrm>
            <a:off x="6572160" y="19573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51"/>
          <p:cNvSpPr/>
          <p:nvPr/>
        </p:nvSpPr>
        <p:spPr>
          <a:xfrm>
            <a:off x="6572160" y="1357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组合 79"/>
          <p:cNvGrpSpPr/>
          <p:nvPr/>
        </p:nvGrpSpPr>
        <p:grpSpPr>
          <a:xfrm>
            <a:off x="1428840" y="1852560"/>
            <a:ext cx="5715000" cy="576360"/>
            <a:chOff x="1428840" y="1852560"/>
            <a:chExt cx="5715000" cy="576360"/>
          </a:xfrm>
        </p:grpSpPr>
        <p:sp>
          <p:nvSpPr>
            <p:cNvPr id="1058" name="TextBox 31"/>
            <p:cNvSpPr/>
            <p:nvPr/>
          </p:nvSpPr>
          <p:spPr>
            <a:xfrm>
              <a:off x="3500640" y="192852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三九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Box 34"/>
            <p:cNvSpPr/>
            <p:nvPr/>
          </p:nvSpPr>
          <p:spPr>
            <a:xfrm>
              <a:off x="1428840" y="185256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3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Box 32"/>
            <p:cNvSpPr/>
            <p:nvPr/>
          </p:nvSpPr>
          <p:spPr>
            <a:xfrm>
              <a:off x="5786640" y="195084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3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矩形 22"/>
            <p:cNvSpPr/>
            <p:nvPr/>
          </p:nvSpPr>
          <p:spPr>
            <a:xfrm>
              <a:off x="2643120" y="192852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23"/>
            <p:cNvSpPr/>
            <p:nvPr/>
          </p:nvSpPr>
          <p:spPr>
            <a:xfrm>
              <a:off x="6572520" y="192852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51"/>
          <p:cNvSpPr/>
          <p:nvPr/>
        </p:nvSpPr>
        <p:spPr>
          <a:xfrm>
            <a:off x="6572160" y="71424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组合 77"/>
          <p:cNvGrpSpPr/>
          <p:nvPr/>
        </p:nvGrpSpPr>
        <p:grpSpPr>
          <a:xfrm>
            <a:off x="1428840" y="714240"/>
            <a:ext cx="5715000" cy="500040"/>
            <a:chOff x="1428840" y="714240"/>
            <a:chExt cx="5715000" cy="500040"/>
          </a:xfrm>
        </p:grpSpPr>
        <p:sp>
          <p:nvSpPr>
            <p:cNvPr id="1065" name="TextBox 43"/>
            <p:cNvSpPr/>
            <p:nvPr/>
          </p:nvSpPr>
          <p:spPr>
            <a:xfrm>
              <a:off x="1428840" y="78588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1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Box 45"/>
            <p:cNvSpPr/>
            <p:nvPr/>
          </p:nvSpPr>
          <p:spPr>
            <a:xfrm>
              <a:off x="3500640" y="785520"/>
              <a:ext cx="1571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九得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Box 47"/>
            <p:cNvSpPr/>
            <p:nvPr/>
          </p:nvSpPr>
          <p:spPr>
            <a:xfrm>
              <a:off x="5786640" y="71424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1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矩形 29"/>
            <p:cNvSpPr/>
            <p:nvPr/>
          </p:nvSpPr>
          <p:spPr>
            <a:xfrm>
              <a:off x="2643120" y="7142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矩形 30"/>
            <p:cNvSpPr/>
            <p:nvPr/>
          </p:nvSpPr>
          <p:spPr>
            <a:xfrm>
              <a:off x="6572520" y="7142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组合 80"/>
          <p:cNvGrpSpPr/>
          <p:nvPr/>
        </p:nvGrpSpPr>
        <p:grpSpPr>
          <a:xfrm>
            <a:off x="1405080" y="2428920"/>
            <a:ext cx="5738760" cy="571320"/>
            <a:chOff x="1405080" y="2428920"/>
            <a:chExt cx="5738760" cy="571320"/>
          </a:xfrm>
        </p:grpSpPr>
        <p:sp>
          <p:nvSpPr>
            <p:cNvPr id="1071" name="TextBox 64"/>
            <p:cNvSpPr/>
            <p:nvPr/>
          </p:nvSpPr>
          <p:spPr>
            <a:xfrm>
              <a:off x="3500280" y="242892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Box 65"/>
            <p:cNvSpPr/>
            <p:nvPr/>
          </p:nvSpPr>
          <p:spPr>
            <a:xfrm>
              <a:off x="1405080" y="24570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4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34"/>
            <p:cNvSpPr/>
            <p:nvPr/>
          </p:nvSpPr>
          <p:spPr>
            <a:xfrm>
              <a:off x="2643120" y="25002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矩形 35"/>
            <p:cNvSpPr/>
            <p:nvPr/>
          </p:nvSpPr>
          <p:spPr>
            <a:xfrm>
              <a:off x="6572520" y="25002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Box 65"/>
            <p:cNvSpPr/>
            <p:nvPr/>
          </p:nvSpPr>
          <p:spPr>
            <a:xfrm>
              <a:off x="5786640" y="25002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4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angle 51"/>
          <p:cNvSpPr/>
          <p:nvPr/>
        </p:nvSpPr>
        <p:spPr>
          <a:xfrm>
            <a:off x="2714760" y="30718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51"/>
          <p:cNvSpPr/>
          <p:nvPr/>
        </p:nvSpPr>
        <p:spPr>
          <a:xfrm>
            <a:off x="6572160" y="30718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81"/>
          <p:cNvGrpSpPr/>
          <p:nvPr/>
        </p:nvGrpSpPr>
        <p:grpSpPr>
          <a:xfrm>
            <a:off x="1798560" y="2928960"/>
            <a:ext cx="5345280" cy="642960"/>
            <a:chOff x="1798560" y="2928960"/>
            <a:chExt cx="5345280" cy="642960"/>
          </a:xfrm>
        </p:grpSpPr>
        <p:sp>
          <p:nvSpPr>
            <p:cNvPr id="1079" name="TextBox 64"/>
            <p:cNvSpPr/>
            <p:nvPr/>
          </p:nvSpPr>
          <p:spPr>
            <a:xfrm>
              <a:off x="3500280" y="2928960"/>
              <a:ext cx="214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五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Box 65"/>
            <p:cNvSpPr/>
            <p:nvPr/>
          </p:nvSpPr>
          <p:spPr>
            <a:xfrm>
              <a:off x="1798560" y="3097080"/>
              <a:ext cx="913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5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矩形 42"/>
            <p:cNvSpPr/>
            <p:nvPr/>
          </p:nvSpPr>
          <p:spPr>
            <a:xfrm>
              <a:off x="2642760" y="30718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矩形 43"/>
            <p:cNvSpPr/>
            <p:nvPr/>
          </p:nvSpPr>
          <p:spPr>
            <a:xfrm>
              <a:off x="6572520" y="30718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65"/>
            <p:cNvSpPr/>
            <p:nvPr/>
          </p:nvSpPr>
          <p:spPr>
            <a:xfrm>
              <a:off x="5786640" y="307188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5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Rectangle 51"/>
          <p:cNvSpPr/>
          <p:nvPr/>
        </p:nvSpPr>
        <p:spPr>
          <a:xfrm>
            <a:off x="2714760" y="3643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1"/>
          <p:cNvSpPr/>
          <p:nvPr/>
        </p:nvSpPr>
        <p:spPr>
          <a:xfrm>
            <a:off x="6572160" y="3643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组合 82"/>
          <p:cNvGrpSpPr/>
          <p:nvPr/>
        </p:nvGrpSpPr>
        <p:grpSpPr>
          <a:xfrm>
            <a:off x="1400040" y="3643200"/>
            <a:ext cx="5743800" cy="500040"/>
            <a:chOff x="1400040" y="3643200"/>
            <a:chExt cx="5743800" cy="500040"/>
          </a:xfrm>
        </p:grpSpPr>
        <p:sp>
          <p:nvSpPr>
            <p:cNvPr id="1087" name="TextBox 64"/>
            <p:cNvSpPr/>
            <p:nvPr/>
          </p:nvSpPr>
          <p:spPr>
            <a:xfrm>
              <a:off x="3499920" y="3643200"/>
              <a:ext cx="214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六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65"/>
            <p:cNvSpPr/>
            <p:nvPr/>
          </p:nvSpPr>
          <p:spPr>
            <a:xfrm>
              <a:off x="1400040" y="36565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49"/>
            <p:cNvSpPr/>
            <p:nvPr/>
          </p:nvSpPr>
          <p:spPr>
            <a:xfrm>
              <a:off x="2642400" y="36432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50"/>
            <p:cNvSpPr/>
            <p:nvPr/>
          </p:nvSpPr>
          <p:spPr>
            <a:xfrm>
              <a:off x="6572520" y="36432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65"/>
            <p:cNvSpPr/>
            <p:nvPr/>
          </p:nvSpPr>
          <p:spPr>
            <a:xfrm>
              <a:off x="5786280" y="36432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Rectangle 51"/>
          <p:cNvSpPr/>
          <p:nvPr/>
        </p:nvSpPr>
        <p:spPr>
          <a:xfrm>
            <a:off x="4286160" y="29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十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51"/>
          <p:cNvSpPr/>
          <p:nvPr/>
        </p:nvSpPr>
        <p:spPr>
          <a:xfrm>
            <a:off x="4286160" y="36720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51"/>
          <p:cNvSpPr/>
          <p:nvPr/>
        </p:nvSpPr>
        <p:spPr>
          <a:xfrm>
            <a:off x="2714760" y="42861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51"/>
          <p:cNvSpPr/>
          <p:nvPr/>
        </p:nvSpPr>
        <p:spPr>
          <a:xfrm>
            <a:off x="6572160" y="42861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82"/>
          <p:cNvGrpSpPr/>
          <p:nvPr/>
        </p:nvGrpSpPr>
        <p:grpSpPr>
          <a:xfrm>
            <a:off x="1400040" y="4282920"/>
            <a:ext cx="5743800" cy="503280"/>
            <a:chOff x="1400040" y="4282920"/>
            <a:chExt cx="5743800" cy="503280"/>
          </a:xfrm>
        </p:grpSpPr>
        <p:sp>
          <p:nvSpPr>
            <p:cNvPr id="1097" name="TextBox 64"/>
            <p:cNvSpPr/>
            <p:nvPr/>
          </p:nvSpPr>
          <p:spPr>
            <a:xfrm>
              <a:off x="3499920" y="4286520"/>
              <a:ext cx="21434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七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Box 65"/>
            <p:cNvSpPr/>
            <p:nvPr/>
          </p:nvSpPr>
          <p:spPr>
            <a:xfrm>
              <a:off x="1400040" y="428292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7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59"/>
            <p:cNvSpPr/>
            <p:nvPr/>
          </p:nvSpPr>
          <p:spPr>
            <a:xfrm>
              <a:off x="2642400" y="4286520"/>
              <a:ext cx="571320" cy="49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60"/>
            <p:cNvSpPr/>
            <p:nvPr/>
          </p:nvSpPr>
          <p:spPr>
            <a:xfrm>
              <a:off x="6572520" y="4286520"/>
              <a:ext cx="571320" cy="49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Box 65"/>
            <p:cNvSpPr/>
            <p:nvPr/>
          </p:nvSpPr>
          <p:spPr>
            <a:xfrm>
              <a:off x="5786280" y="428652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7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Rectangle 51"/>
          <p:cNvSpPr/>
          <p:nvPr/>
        </p:nvSpPr>
        <p:spPr>
          <a:xfrm>
            <a:off x="4286160" y="431496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六十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51"/>
          <p:cNvSpPr/>
          <p:nvPr/>
        </p:nvSpPr>
        <p:spPr>
          <a:xfrm>
            <a:off x="2703600" y="49942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1"/>
          <p:cNvSpPr/>
          <p:nvPr/>
        </p:nvSpPr>
        <p:spPr>
          <a:xfrm>
            <a:off x="6572160" y="4929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组合 82"/>
          <p:cNvGrpSpPr/>
          <p:nvPr/>
        </p:nvGrpSpPr>
        <p:grpSpPr>
          <a:xfrm>
            <a:off x="1454040" y="4968720"/>
            <a:ext cx="5761080" cy="532080"/>
            <a:chOff x="1454040" y="4968720"/>
            <a:chExt cx="5761080" cy="532080"/>
          </a:xfrm>
        </p:grpSpPr>
        <p:sp>
          <p:nvSpPr>
            <p:cNvPr id="1106" name="TextBox 64"/>
            <p:cNvSpPr/>
            <p:nvPr/>
          </p:nvSpPr>
          <p:spPr>
            <a:xfrm>
              <a:off x="3571560" y="5000760"/>
              <a:ext cx="2143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八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Box 65"/>
            <p:cNvSpPr/>
            <p:nvPr/>
          </p:nvSpPr>
          <p:spPr>
            <a:xfrm>
              <a:off x="1454040" y="498564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68"/>
            <p:cNvSpPr/>
            <p:nvPr/>
          </p:nvSpPr>
          <p:spPr>
            <a:xfrm>
              <a:off x="2649240" y="496872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矩形 69"/>
            <p:cNvSpPr/>
            <p:nvPr/>
          </p:nvSpPr>
          <p:spPr>
            <a:xfrm>
              <a:off x="6643800" y="500076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Box 65"/>
            <p:cNvSpPr/>
            <p:nvPr/>
          </p:nvSpPr>
          <p:spPr>
            <a:xfrm>
              <a:off x="5847120" y="499032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Rectangle 51"/>
          <p:cNvSpPr/>
          <p:nvPr/>
        </p:nvSpPr>
        <p:spPr>
          <a:xfrm>
            <a:off x="4390920" y="506556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七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51"/>
          <p:cNvSpPr/>
          <p:nvPr/>
        </p:nvSpPr>
        <p:spPr>
          <a:xfrm>
            <a:off x="2714760" y="55720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1"/>
          <p:cNvSpPr/>
          <p:nvPr/>
        </p:nvSpPr>
        <p:spPr>
          <a:xfrm>
            <a:off x="6572160" y="55720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组合 82"/>
          <p:cNvGrpSpPr/>
          <p:nvPr/>
        </p:nvGrpSpPr>
        <p:grpSpPr>
          <a:xfrm>
            <a:off x="1450800" y="5572080"/>
            <a:ext cx="5693040" cy="500040"/>
            <a:chOff x="1450800" y="5572080"/>
            <a:chExt cx="5693040" cy="500040"/>
          </a:xfrm>
        </p:grpSpPr>
        <p:sp>
          <p:nvSpPr>
            <p:cNvPr id="1115" name="TextBox 64"/>
            <p:cNvSpPr/>
            <p:nvPr/>
          </p:nvSpPr>
          <p:spPr>
            <a:xfrm>
              <a:off x="3500280" y="557208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九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Box 65"/>
            <p:cNvSpPr/>
            <p:nvPr/>
          </p:nvSpPr>
          <p:spPr>
            <a:xfrm>
              <a:off x="1450800" y="55782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78"/>
            <p:cNvSpPr/>
            <p:nvPr/>
          </p:nvSpPr>
          <p:spPr>
            <a:xfrm>
              <a:off x="2643120" y="55720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79"/>
            <p:cNvSpPr/>
            <p:nvPr/>
          </p:nvSpPr>
          <p:spPr>
            <a:xfrm>
              <a:off x="6572520" y="55720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Box 65"/>
            <p:cNvSpPr/>
            <p:nvPr/>
          </p:nvSpPr>
          <p:spPr>
            <a:xfrm>
              <a:off x="5786640" y="557208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Rectangle 51"/>
          <p:cNvSpPr/>
          <p:nvPr/>
        </p:nvSpPr>
        <p:spPr>
          <a:xfrm>
            <a:off x="4286160" y="56008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八十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22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3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24" name="椭圆 5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5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椭圆 5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矩形 3"/>
          <p:cNvSpPr/>
          <p:nvPr/>
        </p:nvSpPr>
        <p:spPr>
          <a:xfrm>
            <a:off x="897120" y="18748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51"/>
          <p:cNvSpPr/>
          <p:nvPr/>
        </p:nvSpPr>
        <p:spPr>
          <a:xfrm>
            <a:off x="1714680" y="18748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897280" y="18748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4897440" y="18748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7"/>
          <p:cNvSpPr/>
          <p:nvPr/>
        </p:nvSpPr>
        <p:spPr>
          <a:xfrm>
            <a:off x="6969240" y="18748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8"/>
          <p:cNvSpPr/>
          <p:nvPr/>
        </p:nvSpPr>
        <p:spPr>
          <a:xfrm>
            <a:off x="897120" y="28036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9"/>
          <p:cNvSpPr/>
          <p:nvPr/>
        </p:nvSpPr>
        <p:spPr>
          <a:xfrm>
            <a:off x="2897280" y="28036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3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10"/>
          <p:cNvSpPr/>
          <p:nvPr/>
        </p:nvSpPr>
        <p:spPr>
          <a:xfrm>
            <a:off x="4897440" y="28036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"/>
          <p:cNvSpPr/>
          <p:nvPr/>
        </p:nvSpPr>
        <p:spPr>
          <a:xfrm>
            <a:off x="6969240" y="28036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51"/>
          <p:cNvSpPr/>
          <p:nvPr/>
        </p:nvSpPr>
        <p:spPr>
          <a:xfrm>
            <a:off x="3786120" y="18748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51"/>
          <p:cNvSpPr/>
          <p:nvPr/>
        </p:nvSpPr>
        <p:spPr>
          <a:xfrm>
            <a:off x="5715000" y="18748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51"/>
          <p:cNvSpPr/>
          <p:nvPr/>
        </p:nvSpPr>
        <p:spPr>
          <a:xfrm>
            <a:off x="7786800" y="18748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51"/>
          <p:cNvSpPr/>
          <p:nvPr/>
        </p:nvSpPr>
        <p:spPr>
          <a:xfrm>
            <a:off x="1714680" y="2803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51"/>
          <p:cNvSpPr/>
          <p:nvPr/>
        </p:nvSpPr>
        <p:spPr>
          <a:xfrm>
            <a:off x="3786120" y="2803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51"/>
          <p:cNvSpPr/>
          <p:nvPr/>
        </p:nvSpPr>
        <p:spPr>
          <a:xfrm>
            <a:off x="5715000" y="2803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7786800" y="2803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组合 2"/>
          <p:cNvGrpSpPr/>
          <p:nvPr/>
        </p:nvGrpSpPr>
        <p:grpSpPr>
          <a:xfrm>
            <a:off x="-4680" y="87480"/>
            <a:ext cx="3136680" cy="527040"/>
            <a:chOff x="-4680" y="87480"/>
            <a:chExt cx="3136680" cy="527040"/>
          </a:xfrm>
        </p:grpSpPr>
        <p:pic>
          <p:nvPicPr>
            <p:cNvPr id="114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40040" y="87480"/>
              <a:ext cx="29919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0" name="组合 4"/>
            <p:cNvGrpSpPr/>
            <p:nvPr/>
          </p:nvGrpSpPr>
          <p:grpSpPr>
            <a:xfrm>
              <a:off x="-4680" y="182520"/>
              <a:ext cx="415440" cy="274680"/>
              <a:chOff x="-4680" y="182520"/>
              <a:chExt cx="415440" cy="274680"/>
            </a:xfrm>
          </p:grpSpPr>
          <p:sp>
            <p:nvSpPr>
              <p:cNvPr id="1151" name="椭圆 35"/>
              <p:cNvSpPr/>
              <p:nvPr/>
            </p:nvSpPr>
            <p:spPr>
              <a:xfrm rot="16200000">
                <a:off x="235800" y="34848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1240" y="31428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3" name="椭圆 37"/>
              <p:cNvSpPr/>
              <p:nvPr/>
            </p:nvSpPr>
            <p:spPr>
              <a:xfrm rot="16200000">
                <a:off x="235800" y="22212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240" y="19764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680" y="330840"/>
                <a:ext cx="34236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680" y="301680"/>
                <a:ext cx="34236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4680" y="211680"/>
                <a:ext cx="34236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4680" y="182520"/>
                <a:ext cx="342360" cy="10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9" name="Rectangle 64"/>
          <p:cNvSpPr/>
          <p:nvPr/>
        </p:nvSpPr>
        <p:spPr>
          <a:xfrm>
            <a:off x="144360" y="73080"/>
            <a:ext cx="30942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1" name="Rectangle 64"/>
          <p:cNvSpPr/>
          <p:nvPr/>
        </p:nvSpPr>
        <p:spPr>
          <a:xfrm>
            <a:off x="285840" y="98280"/>
            <a:ext cx="2946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32"/>
          <p:cNvSpPr/>
          <p:nvPr/>
        </p:nvSpPr>
        <p:spPr>
          <a:xfrm>
            <a:off x="379440" y="917640"/>
            <a:ext cx="8448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句，每相邻两句口诀的积相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除了最后一句，每一句都可以写出两个乘法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41280" y="982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补充口诀并写两道乘法算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十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六九（五十四）　八九（七十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2"/>
          <p:cNvGrpSpPr/>
          <p:nvPr/>
        </p:nvGrpSpPr>
        <p:grpSpPr>
          <a:xfrm>
            <a:off x="14400" y="77760"/>
            <a:ext cx="3267000" cy="525600"/>
            <a:chOff x="14400" y="77760"/>
            <a:chExt cx="3267000" cy="525600"/>
          </a:xfrm>
        </p:grpSpPr>
        <p:pic>
          <p:nvPicPr>
            <p:cNvPr id="1175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66320" y="77760"/>
              <a:ext cx="31150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6" name="组合 4"/>
            <p:cNvGrpSpPr/>
            <p:nvPr/>
          </p:nvGrpSpPr>
          <p:grpSpPr>
            <a:xfrm>
              <a:off x="14400" y="181080"/>
              <a:ext cx="433080" cy="273600"/>
              <a:chOff x="14400" y="181080"/>
              <a:chExt cx="433080" cy="273600"/>
            </a:xfrm>
          </p:grpSpPr>
          <p:sp>
            <p:nvSpPr>
              <p:cNvPr id="1177" name="椭圆 35"/>
              <p:cNvSpPr/>
              <p:nvPr/>
            </p:nvSpPr>
            <p:spPr>
              <a:xfrm rot="16200000">
                <a:off x="257760" y="344880"/>
                <a:ext cx="9900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8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080" y="307800"/>
                <a:ext cx="2124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椭圆 37"/>
              <p:cNvSpPr/>
              <p:nvPr/>
            </p:nvSpPr>
            <p:spPr>
              <a:xfrm rot="16200000">
                <a:off x="257760" y="217800"/>
                <a:ext cx="9900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0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35080" y="195480"/>
                <a:ext cx="212400" cy="11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323640"/>
                <a:ext cx="35964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95560"/>
                <a:ext cx="35964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160"/>
                <a:ext cx="35964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181080"/>
                <a:ext cx="35964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5" name="直接连接符 22"/>
          <p:cNvSpPr/>
          <p:nvPr/>
        </p:nvSpPr>
        <p:spPr>
          <a:xfrm>
            <a:off x="519120" y="2798640"/>
            <a:ext cx="21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直接连接符 24"/>
          <p:cNvSpPr/>
          <p:nvPr/>
        </p:nvSpPr>
        <p:spPr>
          <a:xfrm>
            <a:off x="487440" y="3735360"/>
            <a:ext cx="2284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直接连接符 26"/>
          <p:cNvSpPr/>
          <p:nvPr/>
        </p:nvSpPr>
        <p:spPr>
          <a:xfrm>
            <a:off x="3244680" y="2798640"/>
            <a:ext cx="2264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直接连接符 28"/>
          <p:cNvSpPr/>
          <p:nvPr/>
        </p:nvSpPr>
        <p:spPr>
          <a:xfrm>
            <a:off x="3244680" y="3735360"/>
            <a:ext cx="2354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直接连接符 32"/>
          <p:cNvSpPr/>
          <p:nvPr/>
        </p:nvSpPr>
        <p:spPr>
          <a:xfrm>
            <a:off x="6043680" y="2798640"/>
            <a:ext cx="2417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直接连接符 38"/>
          <p:cNvSpPr/>
          <p:nvPr/>
        </p:nvSpPr>
        <p:spPr>
          <a:xfrm>
            <a:off x="6097680" y="3735360"/>
            <a:ext cx="2506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9"/>
          <p:cNvSpPr/>
          <p:nvPr/>
        </p:nvSpPr>
        <p:spPr>
          <a:xfrm>
            <a:off x="573120" y="2273400"/>
            <a:ext cx="19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×9=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43"/>
          <p:cNvSpPr/>
          <p:nvPr/>
        </p:nvSpPr>
        <p:spPr>
          <a:xfrm>
            <a:off x="668160" y="313704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×3=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44"/>
          <p:cNvSpPr/>
          <p:nvPr/>
        </p:nvSpPr>
        <p:spPr>
          <a:xfrm>
            <a:off x="3371760" y="228456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×9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46"/>
          <p:cNvSpPr/>
          <p:nvPr/>
        </p:nvSpPr>
        <p:spPr>
          <a:xfrm>
            <a:off x="3430440" y="317016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×6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47"/>
          <p:cNvSpPr/>
          <p:nvPr/>
        </p:nvSpPr>
        <p:spPr>
          <a:xfrm>
            <a:off x="6168960" y="2273400"/>
            <a:ext cx="21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×9=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49"/>
          <p:cNvSpPr/>
          <p:nvPr/>
        </p:nvSpPr>
        <p:spPr>
          <a:xfrm>
            <a:off x="6168960" y="324468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×8=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4"/>
          <p:cNvSpPr/>
          <p:nvPr/>
        </p:nvSpPr>
        <p:spPr>
          <a:xfrm>
            <a:off x="573120" y="2273400"/>
            <a:ext cx="15858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矩形 1"/>
          <p:cNvSpPr/>
          <p:nvPr/>
        </p:nvSpPr>
        <p:spPr>
          <a:xfrm>
            <a:off x="735120" y="3046320"/>
            <a:ext cx="158580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2"/>
          <p:cNvSpPr/>
          <p:nvPr/>
        </p:nvSpPr>
        <p:spPr>
          <a:xfrm>
            <a:off x="3371760" y="2273400"/>
            <a:ext cx="158760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矩形 3"/>
          <p:cNvSpPr/>
          <p:nvPr/>
        </p:nvSpPr>
        <p:spPr>
          <a:xfrm>
            <a:off x="3406680" y="3179880"/>
            <a:ext cx="158760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矩形 4"/>
          <p:cNvSpPr/>
          <p:nvPr/>
        </p:nvSpPr>
        <p:spPr>
          <a:xfrm>
            <a:off x="6093000" y="2273400"/>
            <a:ext cx="158724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矩形 5"/>
          <p:cNvSpPr/>
          <p:nvPr/>
        </p:nvSpPr>
        <p:spPr>
          <a:xfrm>
            <a:off x="6216480" y="3209760"/>
            <a:ext cx="158760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42228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算一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5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×9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4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3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2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1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9=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7×9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8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05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6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07" name="椭圆 3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8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9" name="椭圆 3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0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5" name="矩形 14"/>
          <p:cNvSpPr/>
          <p:nvPr/>
        </p:nvSpPr>
        <p:spPr>
          <a:xfrm>
            <a:off x="1582560" y="159084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1"/>
          <p:cNvSpPr/>
          <p:nvPr/>
        </p:nvSpPr>
        <p:spPr>
          <a:xfrm>
            <a:off x="1577880" y="216864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2"/>
          <p:cNvSpPr/>
          <p:nvPr/>
        </p:nvSpPr>
        <p:spPr>
          <a:xfrm>
            <a:off x="1644480" y="280656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3"/>
          <p:cNvSpPr/>
          <p:nvPr/>
        </p:nvSpPr>
        <p:spPr>
          <a:xfrm>
            <a:off x="4402080" y="161136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4"/>
          <p:cNvSpPr/>
          <p:nvPr/>
        </p:nvSpPr>
        <p:spPr>
          <a:xfrm>
            <a:off x="4425840" y="219852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5"/>
          <p:cNvSpPr/>
          <p:nvPr/>
        </p:nvSpPr>
        <p:spPr>
          <a:xfrm>
            <a:off x="4371840" y="275580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矩形 6"/>
          <p:cNvSpPr/>
          <p:nvPr/>
        </p:nvSpPr>
        <p:spPr>
          <a:xfrm>
            <a:off x="7432560" y="163188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矩形 7"/>
          <p:cNvSpPr/>
          <p:nvPr/>
        </p:nvSpPr>
        <p:spPr>
          <a:xfrm>
            <a:off x="7473960" y="217008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8"/>
          <p:cNvSpPr/>
          <p:nvPr/>
        </p:nvSpPr>
        <p:spPr>
          <a:xfrm>
            <a:off x="7432560" y="278748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42228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在    里填上正确的数，并找出其中的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26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7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28" name="椭圆 3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9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0" name="椭圆 3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1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6" name="Rectangle 82605"/>
          <p:cNvSpPr/>
          <p:nvPr/>
        </p:nvSpPr>
        <p:spPr>
          <a:xfrm>
            <a:off x="1739880" y="1030320"/>
            <a:ext cx="3618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82605"/>
          <p:cNvSpPr/>
          <p:nvPr/>
        </p:nvSpPr>
        <p:spPr>
          <a:xfrm>
            <a:off x="2708280" y="2104920"/>
            <a:ext cx="4348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82605"/>
          <p:cNvSpPr/>
          <p:nvPr/>
        </p:nvSpPr>
        <p:spPr>
          <a:xfrm>
            <a:off x="2708280" y="2646360"/>
            <a:ext cx="4348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2605"/>
          <p:cNvSpPr/>
          <p:nvPr/>
        </p:nvSpPr>
        <p:spPr>
          <a:xfrm>
            <a:off x="2708280" y="3227400"/>
            <a:ext cx="4348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82605"/>
          <p:cNvSpPr/>
          <p:nvPr/>
        </p:nvSpPr>
        <p:spPr>
          <a:xfrm>
            <a:off x="2708280" y="3807000"/>
            <a:ext cx="4348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82605"/>
          <p:cNvSpPr/>
          <p:nvPr/>
        </p:nvSpPr>
        <p:spPr>
          <a:xfrm>
            <a:off x="2708280" y="4370400"/>
            <a:ext cx="4348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82605"/>
          <p:cNvSpPr/>
          <p:nvPr/>
        </p:nvSpPr>
        <p:spPr>
          <a:xfrm>
            <a:off x="6561000" y="2104920"/>
            <a:ext cx="4352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82605"/>
          <p:cNvSpPr/>
          <p:nvPr/>
        </p:nvSpPr>
        <p:spPr>
          <a:xfrm>
            <a:off x="6561000" y="2646360"/>
            <a:ext cx="4352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82605"/>
          <p:cNvSpPr/>
          <p:nvPr/>
        </p:nvSpPr>
        <p:spPr>
          <a:xfrm>
            <a:off x="6561000" y="3227400"/>
            <a:ext cx="4352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82605"/>
          <p:cNvSpPr/>
          <p:nvPr/>
        </p:nvSpPr>
        <p:spPr>
          <a:xfrm>
            <a:off x="6561000" y="3807000"/>
            <a:ext cx="4352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矩形 14"/>
          <p:cNvSpPr/>
          <p:nvPr/>
        </p:nvSpPr>
        <p:spPr>
          <a:xfrm>
            <a:off x="2762280" y="2181240"/>
            <a:ext cx="3207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矩形 10"/>
          <p:cNvSpPr/>
          <p:nvPr/>
        </p:nvSpPr>
        <p:spPr>
          <a:xfrm>
            <a:off x="6597720" y="2184480"/>
            <a:ext cx="32076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矩形 12"/>
          <p:cNvSpPr/>
          <p:nvPr/>
        </p:nvSpPr>
        <p:spPr>
          <a:xfrm>
            <a:off x="2738520" y="2720880"/>
            <a:ext cx="3222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矩形 13"/>
          <p:cNvSpPr/>
          <p:nvPr/>
        </p:nvSpPr>
        <p:spPr>
          <a:xfrm>
            <a:off x="6597720" y="2727360"/>
            <a:ext cx="3207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矩形 15"/>
          <p:cNvSpPr/>
          <p:nvPr/>
        </p:nvSpPr>
        <p:spPr>
          <a:xfrm>
            <a:off x="2738520" y="3292560"/>
            <a:ext cx="3222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矩形 16"/>
          <p:cNvSpPr/>
          <p:nvPr/>
        </p:nvSpPr>
        <p:spPr>
          <a:xfrm>
            <a:off x="6638760" y="3306600"/>
            <a:ext cx="3207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矩形 17"/>
          <p:cNvSpPr/>
          <p:nvPr/>
        </p:nvSpPr>
        <p:spPr>
          <a:xfrm>
            <a:off x="2738520" y="3887640"/>
            <a:ext cx="3222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矩形 18"/>
          <p:cNvSpPr/>
          <p:nvPr/>
        </p:nvSpPr>
        <p:spPr>
          <a:xfrm>
            <a:off x="6594480" y="3882960"/>
            <a:ext cx="32076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矩形 20"/>
          <p:cNvSpPr/>
          <p:nvPr/>
        </p:nvSpPr>
        <p:spPr>
          <a:xfrm>
            <a:off x="2768760" y="4444920"/>
            <a:ext cx="3222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 txBox="1"/>
          <p:nvPr/>
        </p:nvSpPr>
        <p:spPr>
          <a:xfrm>
            <a:off x="42228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钟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需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，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需要多少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=3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敲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下需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57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59" name="椭圆 3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0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1" name="椭圆 3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2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4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5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6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7" name="矩形 14"/>
          <p:cNvSpPr/>
          <p:nvPr/>
        </p:nvSpPr>
        <p:spPr>
          <a:xfrm>
            <a:off x="2414520" y="2073240"/>
            <a:ext cx="4332240" cy="133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39:53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